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B5C7-F9BE-4F1F-8923-54758ECD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EC7D-C6FE-4003-B6E0-B26D0691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4D04-EE57-48CD-9AB3-8C796F2E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BCCF-902A-4AC2-85CE-50C084CA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8932-DFCC-4A4E-B11B-D2BF0B22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4A0A-4952-4148-BCDC-4EBE9234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DA91-2298-4674-9FA1-54FDD5A4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E6D2-6113-44A0-9E01-E45C88BB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D58D-D841-422C-9BB8-B9AC5A94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5FAC-28F7-4522-A9AD-D645F9A8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F25E-809C-4115-B892-AC69C980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FBAC-458E-4FC8-87B3-2B50EB03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561C-8DE7-4CCD-931A-ED3EB1B68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podloga"/>
          <p:cNvPicPr/>
          <p:nvPr/>
        </p:nvPicPr>
        <p:blipFill>
          <a:blip r:embed="rId1"/>
          <a:stretch/>
        </p:blipFill>
        <p:spPr>
          <a:xfrm>
            <a:off x="738360" y="558720"/>
            <a:ext cx="7667280" cy="57405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611280" y="5589720"/>
            <a:ext cx="7772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Катарина Парезанови</a:t>
            </a: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ћ Илић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Rectangle 20"/>
          <p:cNvSpPr/>
          <p:nvPr/>
        </p:nvSpPr>
        <p:spPr>
          <a:xfrm>
            <a:off x="611280" y="2886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cc00"/>
                </a:solidFill>
                <a:latin typeface="Arial"/>
              </a:rPr>
              <a:t>Физикална медицина и рехабилитациј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Text Box 23"/>
          <p:cNvSpPr/>
          <p:nvPr/>
        </p:nvSpPr>
        <p:spPr>
          <a:xfrm>
            <a:off x="1332000" y="185724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ОСНОВНЕ СТРУКОВНЕ СТУДИЈЕ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Text Box 25"/>
          <p:cNvSpPr/>
          <p:nvPr/>
        </p:nvSpPr>
        <p:spPr>
          <a:xfrm>
            <a:off x="1332000" y="221760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СТРУКОВНА МЕДИЦИНСКА СЕСТРА-ТЕХНИЧАР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11280" y="549360"/>
            <a:ext cx="792144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Оштећење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Привремени или трајни психички, анатомски или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физиолошки губитак,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поремећај структуре или функције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66"/>
                </a:solidFill>
                <a:latin typeface="Arial"/>
              </a:rPr>
              <a:t>Инвалид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Особа која због урођеног или стеченог недостатка физичких или менталних способности не може себи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(делимично или у потпуности)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да обезбеди услове за вођење личног или друштвеног живота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66"/>
                </a:solidFill>
                <a:latin typeface="Arial"/>
              </a:rPr>
              <a:t>Хендикеп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Степен ограничености које особа показује у самозбрињавању, професији, културном и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друштвеном животу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660066"/>
                </a:solidFill>
                <a:latin typeface="Arial"/>
              </a:rPr>
              <a:t>Физикална медиц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Ф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yсис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90033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физикалн</a:t>
            </a:r>
            <a:r>
              <a:rPr b="0" lang="sr-Latn-CS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медицин</a:t>
            </a:r>
            <a:r>
              <a:rPr b="0" lang="sr-Latn-CS" sz="2400" spc="-1" strike="noStrike">
                <a:solidFill>
                  <a:srgbClr val="990033"/>
                </a:solidFill>
                <a:latin typeface="Arial"/>
              </a:rPr>
              <a:t>а -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природна медицина</a:t>
            </a:r>
            <a:r>
              <a:rPr b="0" lang="sr-Latn-CS" sz="2400" spc="-1" strike="noStrike">
                <a:solidFill>
                  <a:srgbClr val="99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Arial"/>
              </a:rPr>
              <a:t>Дефини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Arial"/>
              </a:rPr>
              <a:t>Поде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ФИЗИКАЛНА ПРОФИЛА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ФИЗИКАЛНА ДИЈАГНОСТ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ФИЗИКАЛНА ТЕРАП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Задаци физикалне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успостављање о</a:t>
            </a:r>
            <a:r>
              <a:rPr b="1" lang="sl-SI" sz="2800" spc="-1" strike="noStrike">
                <a:solidFill>
                  <a:srgbClr val="990033"/>
                </a:solidFill>
                <a:latin typeface="Arial"/>
              </a:rPr>
              <a:t>ш</a:t>
            </a: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тећених функција или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њихова компензациј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побољшање нарушене ауторегулациј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максимално смањење физичке неспособности после обољења или повре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532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Циљеви физикалне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смањење или отклањање бо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побољшање локалне циркулациј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побољшање локалног и општег метаболизм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смањење едем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побољшање еластичности тки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савладјивање контрактура (артрогене, миогене, </a:t>
            </a:r>
            <a:r>
              <a:rPr b="1" lang="sr-C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дезмоген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...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спр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ч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авање стварања ожиља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стимул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исање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 зарастања костиј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смањење тонуса симпатикус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моторна реедукација након одузетости или инактивите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побољшање вентилаторне функциј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побољшање карди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олошк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е функ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0066"/>
                </a:solidFill>
                <a:latin typeface="Arial"/>
              </a:rPr>
              <a:t>Деловање физикалне терапије на организ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окално (локални метаболиза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пште (ва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з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дилатац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вазомоторне реакциј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интра и екстрацелуларна промена концентрације јо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деловање на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ћ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елијску пумпу"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измена биоелектри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ч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них потенцијала и формирање  </a:t>
            </a:r>
            <a:br>
              <a:rPr sz="2000"/>
            </a:br>
            <a:r>
              <a:rPr b="1" lang="sr-CS" sz="20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акционог потенцијала нерава и миши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процеси биосинте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60066"/>
                </a:solidFill>
                <a:latin typeface="Arial"/>
              </a:rPr>
              <a:t>Подела физикалне терапије према врсти активне енергиј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11280" y="270828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11280" y="1989000"/>
            <a:ext cx="85327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Област</a:t>
            </a: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Вид енергије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990033"/>
                </a:solidFill>
                <a:latin typeface="Arial"/>
              </a:rPr>
              <a:t>Фототерапија</a:t>
            </a:r>
            <a:r>
              <a:rPr b="1" lang="de-DE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de-DE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de-DE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de-DE" sz="1900" spc="-1" strike="noStrike">
                <a:solidFill>
                  <a:srgbClr val="990033"/>
                </a:solidFill>
                <a:latin typeface="Arial"/>
              </a:rPr>
              <a:t>Светлосн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Магнетотерапија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Енергија електро магнетног пољ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Термотерапија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Топлотн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Хидротерапија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Механика 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 топлотн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Таласотерапија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Механичка, топлотна и светлосна </a:t>
            </a:r>
            <a:br>
              <a:rPr sz="1900"/>
            </a:br>
            <a:r>
              <a:rPr b="1" lang="sr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Електротерапија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Електричн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Механотерапија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Механичк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Хипербари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ч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на оксигенација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Хемијск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Кинезитерапија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Кинетичк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60066"/>
                </a:solidFill>
                <a:latin typeface="Arial"/>
              </a:rPr>
              <a:t>Медицинска рехабилит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611280" y="1628640"/>
            <a:ext cx="792144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Подела рехабилiтације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Arial"/>
              </a:rPr>
              <a:t>●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Медиц</a:t>
            </a:r>
            <a:r>
              <a:rPr b="1" lang="sr-CS" sz="2800" spc="-1" strike="noStrike">
                <a:solidFill>
                  <a:srgbClr val="660066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нска рехабил</a:t>
            </a:r>
            <a:r>
              <a:rPr b="1" lang="sr-CS" sz="2800" spc="-1" strike="noStrike">
                <a:solidFill>
                  <a:srgbClr val="660066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тација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Arial"/>
              </a:rPr>
              <a:t>●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оцијалнa рехабил</a:t>
            </a:r>
            <a:r>
              <a:rPr b="1" lang="sr-CS" sz="2800" spc="-1" strike="noStrike">
                <a:solidFill>
                  <a:srgbClr val="660066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тација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Arial"/>
              </a:rPr>
              <a:t>●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Професионал</a:t>
            </a:r>
            <a:r>
              <a:rPr b="1" lang="sr-CS" sz="2800" spc="-1" strike="noStrike">
                <a:solidFill>
                  <a:srgbClr val="660066"/>
                </a:solidFill>
                <a:latin typeface="Arial"/>
              </a:rPr>
              <a:t>н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 рехабил</a:t>
            </a:r>
            <a:r>
              <a:rPr b="1" lang="sr-CS" sz="2800" spc="-1" strike="noStrike">
                <a:solidFill>
                  <a:srgbClr val="660066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тација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Rehabilitatio-враћaње у пре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ђ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ашње стање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Рехабилiтација представљa другu шансу живота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Бави се оспo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обљавaњем инвалидн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х лица у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жем с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м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лу речи, развијањем до максималних могућности преосталих спо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oбности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5899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60066"/>
                </a:solidFill>
                <a:latin typeface="Arial"/>
              </a:rPr>
              <a:t>Принципи медицинске рехабили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11280" y="2708280"/>
            <a:ext cx="82803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ацијент је субјекат а не објекат</a:t>
            </a:r>
            <a:r>
              <a:rPr b="1" lang="sr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рехабилитације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а по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не благовремено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рана рехабилитација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990033"/>
                </a:solidFill>
                <a:latin typeface="Arial"/>
              </a:rPr>
              <a:t>да буде свеобухватна (тимски рад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а траје довољно дуго 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ок се не исцрпе све рехабилитационе могу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ности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а буде континуиран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Методе медицинске рехабили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нега болесн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ф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з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кa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лн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a тeрaп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ј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аднa те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a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р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менa протe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т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ск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х и о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т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o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тс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к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х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ед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т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гo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в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нa терaпијa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2200"/>
            </a:b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(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рин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ц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п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 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ешавањa prоблeмa у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 комуникациј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в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aсп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тање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бразовa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њ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е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дeцe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oмe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т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eн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пo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м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o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ћ у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решавањ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сих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јaт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ијс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к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х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блем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помo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ћ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у решавањ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сoцијa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л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н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х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блемa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п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фeс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нaл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н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o у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мeравање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7:34:11Z</dcterms:created>
  <dc:creator>Vojislav Ilic</dc:creator>
  <dc:description/>
  <dc:language>en-US</dc:language>
  <cp:lastModifiedBy>katarinaparezanovicilic@gmail.com</cp:lastModifiedBy>
  <dcterms:modified xsi:type="dcterms:W3CDTF">2020-09-26T16:51:18Z</dcterms:modified>
  <cp:revision>20</cp:revision>
  <dc:subject/>
  <dc:title>Slide 1</dc:title>
</cp:coreProperties>
</file>